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32E9A-E176-4277-ADB3-2177723E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8602B-46CD-4EB3-A49A-CFCB903E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CF06-6051-4721-92F8-046B35865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EC632-5A2A-4B12-8D73-E6D06BA61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8CA4C-8935-4EE1-90D4-6A82A0467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FAB18-3B99-4833-8574-4C33ECB20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F46BD-C498-4B79-B5EC-98F5AFB57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7A3BE-7B17-43E8-8DF6-838C7709D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D854A-9D98-4BF8-94DD-DDC9B9B02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79874-B1DB-450D-90B9-D85315A80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66017-2CE6-429E-825F-0A0388126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2FB6-16F2-463F-8A43-0B2FF1A5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D4F15-32F9-4898-8AB7-A2E95C0B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276BF-59D2-4D35-A637-51C744D0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E19DC-88DA-4BB8-B5F7-4F7014026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B2952-D5EB-4DA2-99E2-773D3DAB2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D41A2-C057-464A-8EAB-F07DDC8F7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6DCA1-78C2-498F-A9EC-0155AD7F9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C0870-DF8C-4556-8ECD-D76F526C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9F643-65D9-4148-9ADC-7C8445E9B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7489F-DD7F-4FC6-9007-916B880235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46397-1CE1-48F4-A72A-9D9E999F1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13FD-44F9-49F5-BCCF-0182E138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9CE58-F517-475B-929E-0D6577AE6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18AF8-0172-45E7-BDF9-13E7FB777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0E421-7153-41A3-A312-0FFDB9F20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A1EA2-3C11-4C4A-BFBF-2096A610B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384F9-C0D2-47F7-96A5-BD7559894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0496F3-CF53-4508-AD00-207C07A68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790ADB-C2D1-428C-86A8-80A2750106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42A57D-D9C7-4D3C-8CFD-1CD1B179F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FF60C-A3C5-495E-89A0-505326636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6A1B1-E88F-4918-AE09-1D0A85057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9C58-77F1-4C1F-8CAB-E5F987974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675D3-A26D-475E-B28D-3CF070E14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AABAF-0586-48C1-B40A-4A2823A46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F4C93-8605-4AD0-B4DB-1894A04C2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B133C-A0F3-4559-8DFB-456AB83B4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79D1E-A252-4EFE-ABF9-F9BE9AC7E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C7782-59CB-4A1C-8145-1B0125D54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9389D-D3CA-4F00-8155-66E710972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4A520-41D0-4135-95ED-64887071D4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FA97A-5D57-415F-B59D-AE746717F7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F62C9-A440-4A79-95B1-F41A6CB5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670E2-4E52-458F-B4C3-8058C34B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EF55-5FD2-42AA-AD5D-07A99511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F9B1-90F1-4317-A595-83D647B7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C8D3-2415-4291-A7A7-6905951CE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B0FD-A052-4C09-960D-117B752A573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7" name="Freeform 12"/>
            <p:cNvGrpSpPr/>
            <p:nvPr/>
          </p:nvGrpSpPr>
          <p:grpSpPr>
            <a:xfrm>
              <a:off x="-19080" y="248040"/>
              <a:ext cx="9181080" cy="565200"/>
              <a:chOff x="-19080" y="248040"/>
              <a:chExt cx="9181080" cy="565200"/>
            </a:xfrm>
          </p:grpSpPr>
          <p:pic>
            <p:nvPicPr>
              <p:cNvPr id="58" name="Freeform 12" descr=""/>
              <p:cNvPicPr/>
              <p:nvPr/>
            </p:nvPicPr>
            <p:blipFill>
              <a:blip r:embed="rId4"/>
              <a:stretch/>
            </p:blipFill>
            <p:spPr>
              <a:xfrm>
                <a:off x="-3240" y="248040"/>
                <a:ext cx="9165240" cy="565200"/>
              </a:xfrm>
              <a:prstGeom prst="rect">
                <a:avLst/>
              </a:prstGeom>
              <a:ln w="0">
                <a:noFill/>
              </a:ln>
            </p:spPr>
          </p:pic>
          <p:sp>
            <p:nvSpPr>
              <p:cNvPr id="5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7967-098F-430F-8B0B-AF784EA9000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8" name="Freeform 12"/>
            <p:cNvGrpSpPr/>
            <p:nvPr/>
          </p:nvGrpSpPr>
          <p:grpSpPr>
            <a:xfrm>
              <a:off x="-19080" y="248040"/>
              <a:ext cx="9181080" cy="565200"/>
              <a:chOff x="-19080" y="248040"/>
              <a:chExt cx="9181080" cy="565200"/>
            </a:xfrm>
          </p:grpSpPr>
          <p:pic>
            <p:nvPicPr>
              <p:cNvPr id="109" name="Freeform 12" descr=""/>
              <p:cNvPicPr/>
              <p:nvPr/>
            </p:nvPicPr>
            <p:blipFill>
              <a:blip r:embed="rId4"/>
              <a:stretch/>
            </p:blipFill>
            <p:spPr>
              <a:xfrm>
                <a:off x="-3240" y="248040"/>
                <a:ext cx="9165240" cy="565200"/>
              </a:xfrm>
              <a:prstGeom prst="rect">
                <a:avLst/>
              </a:prstGeom>
              <a:ln w="0">
                <a:noFill/>
              </a:ln>
            </p:spPr>
          </p:pic>
          <p:sp>
            <p:nvSpPr>
              <p:cNvPr id="11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CEF0-5A15-49C3-821F-AFB1DE34028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0C86-704F-47D7-971A-71C522BFAED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a:t>
            </a:r>
            <a:r>
              <a:rPr b="0" lang="sr-RS" sz="2800" spc="-1" strike="noStrike">
                <a:solidFill>
                  <a:srgbClr val="04617b"/>
                </a:solidFill>
                <a:latin typeface="Calibri"/>
              </a:rPr>
              <a:t>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7"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1"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sthodontic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sthodontics is a dental specialty concerned with restoration and maintenance of oral function, appearance, and comfort  by use of prostheses. A prosthodontist is a dentist who specializes in prosthodontics, the specialty of implant, aesthetic and reconstructive dentistry. Prosthodontists specialize in the restoration of oral function by creating prostheses and restorations (complete dentures, crowns, implant retained/supported restorations). Cosmetic dentistry, implants and joint problems all fall under the field of prosthodontics. Dentures are prosthetic devices constructed to replace missing teeth, and which are supported by surrounding soft and hard tissues of the oral cavity. Conventional dentures are removable, however, there are many different denture designs some which rely on bonding onto teeth or dental implants....... The rest of the lesson can be found in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ntal P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entulo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utmen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ntic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gg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en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jacen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PROSTHODONT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 OF TOOTH LOS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ES OF DENTUR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ind synonyms for each of the following words:</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ura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me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uc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zardou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e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le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hanc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sitiv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the prefixes im-, in-, un-, and non-, to form words opposite in meaning:</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genera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amma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sent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ibuto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cepti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ista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a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t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ia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phrasal verbs in the following sentence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must………….smoking. It’s bad for your healt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 has high blood pressure. The doctor has suggested her to…………cigarettes and fatty food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is a very obese person. He should…………a well-balanced die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don’t ……………some exercise, you’ll have pain in your back.</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must…………….taking these antibiotics if we want to feel bett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new methods have to be………….first and then appli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rite sentences using causative have or get:</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ll ………………(her arm/operate) yesterda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e…………just……………(her nose/break)</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you………………..? (this machine/fix)</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his speech/write) at the mom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 better…………….(this report/finish) as soon as possib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men……………………(all necessary analyses/do) while they were in hospit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текст на енглески језик</a:t>
            </a:r>
            <a:r>
              <a:rPr b="0" lang="sr-C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9T00:13:40Z</dcterms:modified>
  <cp:revision>24</cp:revision>
  <dc:subject/>
  <dc:title>Slide 1</dc:title>
</cp:coreProperties>
</file>